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DE4-477E-46E4-80AF-5A153F51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D5D-CBDD-4AF7-B8A5-048CC777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C9E-58DF-4561-9F36-336853EC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52B-2004-48EC-8B00-3AEB284C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BEA-65EF-4357-AC2C-34EC058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4F9-C4CF-4089-ABA2-5CD1CD2F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99F-EBF9-48C8-8BBB-FD7D4B4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862-6C4B-4582-91D6-88307448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F10-4BFF-4DD0-80D8-E798FB71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373-A047-4F9B-A423-1B9A855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948-D7A0-40A4-BEAA-6251E00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45C-4CEA-432F-AE7B-F35F9AD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776E-BC17-423B-B12F-43D2D9C3C1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BE3A-1457-4A2A-A241-3D6BA9B21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762120" y="1219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ational Platform on Land and Water Management in Ethi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095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NBDC meeting – 30 May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Logic and jus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896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eak institutional linkages, sectoral policies and fragmented invest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 cross-institutional learning, local action and polic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daptive capac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mmunities and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sponsiveness of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acilitate action in Land, Water and NR Management need to be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development &amp; policy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active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ational plat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governmental institutions, NGOs, donors, private sector and civil societies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imulate sharing and learning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uide evidence-based policy formu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hance effective coord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ess institutional and policy constra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ild institutional capac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e out and up best practic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here do we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ant to go?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676520" y="6019920"/>
            <a:ext cx="1447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ther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3915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 district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3915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1774440" y="2438280"/>
            <a:ext cx="1066680" cy="35816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2743200" y="16891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739152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3733920" y="601992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>
            <a:off x="5181480" y="55627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5105520" y="411480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791320" y="601992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n-project 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0"/>
          <p:cNvSpPr/>
          <p:nvPr/>
        </p:nvSpPr>
        <p:spPr>
          <a:xfrm>
            <a:off x="4800600" y="266688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41"/>
          <p:cNvSpPr/>
          <p:nvPr/>
        </p:nvSpPr>
        <p:spPr>
          <a:xfrm>
            <a:off x="6019920" y="5562720"/>
            <a:ext cx="0" cy="4572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2"/>
          <p:cNvSpPr/>
          <p:nvPr/>
        </p:nvSpPr>
        <p:spPr>
          <a:xfrm>
            <a:off x="7924680" y="53341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7924680" y="5943600"/>
            <a:ext cx="0" cy="3808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8077320" y="5334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aring &amp;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7"/>
          <p:cNvSpPr/>
          <p:nvPr/>
        </p:nvSpPr>
        <p:spPr>
          <a:xfrm>
            <a:off x="8077320" y="59403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caling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2"/>
          <p:cNvSpPr/>
          <p:nvPr/>
        </p:nvSpPr>
        <p:spPr>
          <a:xfrm flipV="1">
            <a:off x="6324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632448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6248520" y="2743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5"/>
          <p:cNvSpPr/>
          <p:nvPr/>
        </p:nvSpPr>
        <p:spPr>
          <a:xfrm flipV="1">
            <a:off x="6705720" y="2361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BEC5-3479-4384-B19F-56DBD06E4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095880" y="1981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3733920" y="19051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510552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4952880" y="17524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434340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3657600" y="2362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2971800" y="20574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ounded Rectangle 129" descr=""/>
          <p:cNvPicPr/>
          <p:nvPr/>
        </p:nvPicPr>
        <p:blipFill>
          <a:blip r:embed="rId1"/>
          <a:stretch/>
        </p:blipFill>
        <p:spPr>
          <a:xfrm>
            <a:off x="901800" y="1663560"/>
            <a:ext cx="561960" cy="4140360"/>
          </a:xfrm>
          <a:prstGeom prst="rect">
            <a:avLst/>
          </a:prstGeom>
          <a:ln w="0">
            <a:noFill/>
          </a:ln>
        </p:spPr>
      </p:pic>
      <p:sp>
        <p:nvSpPr>
          <p:cNvPr id="79" name="Rounded Rectangle 130"/>
          <p:cNvSpPr/>
          <p:nvPr/>
        </p:nvSpPr>
        <p:spPr>
          <a:xfrm>
            <a:off x="6934320" y="76212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d4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-Right Arrow 132"/>
          <p:cNvSpPr/>
          <p:nvPr/>
        </p:nvSpPr>
        <p:spPr>
          <a:xfrm>
            <a:off x="1676520" y="205740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eft-Right Arrow 135"/>
          <p:cNvSpPr/>
          <p:nvPr/>
        </p:nvSpPr>
        <p:spPr>
          <a:xfrm>
            <a:off x="1676520" y="495288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eft-Right Arrow 136"/>
          <p:cNvSpPr/>
          <p:nvPr/>
        </p:nvSpPr>
        <p:spPr>
          <a:xfrm>
            <a:off x="1676520" y="350532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eft-Right Arrow 137"/>
          <p:cNvSpPr/>
          <p:nvPr/>
        </p:nvSpPr>
        <p:spPr>
          <a:xfrm rot="18607800">
            <a:off x="6809400" y="1473480"/>
            <a:ext cx="469800" cy="255600"/>
          </a:xfrm>
          <a:prstGeom prst="leftRightArrow">
            <a:avLst>
              <a:gd name="adj1" fmla="val 50000"/>
              <a:gd name="adj2" fmla="val 4995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aptop"/>
          <p:cNvSpPr/>
          <p:nvPr/>
        </p:nvSpPr>
        <p:spPr>
          <a:xfrm>
            <a:off x="1752480" y="380880"/>
            <a:ext cx="1371600" cy="762120"/>
          </a:xfrm>
          <a:custGeom>
            <a:avLst/>
            <a:gdLst>
              <a:gd name="textAreaLeft" fmla="*/ 282240 w 1371600"/>
              <a:gd name="textAreaRight" fmla="*/ 1099440 w 1371600"/>
              <a:gd name="textAreaTop" fmla="*/ 65520 h 762120"/>
              <a:gd name="textAreaBottom" fmla="*/ 434880 h 7621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9"/>
          <p:cNvSpPr/>
          <p:nvPr/>
        </p:nvSpPr>
        <p:spPr>
          <a:xfrm>
            <a:off x="1981080" y="407880"/>
            <a:ext cx="9144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8"/>
          <p:cNvSpPr/>
          <p:nvPr/>
        </p:nvSpPr>
        <p:spPr>
          <a:xfrm>
            <a:off x="2743200" y="30607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9"/>
          <p:cNvSpPr/>
          <p:nvPr/>
        </p:nvSpPr>
        <p:spPr>
          <a:xfrm>
            <a:off x="6095880" y="33526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3657600" y="3276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510552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4952880" y="3124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434340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3581280" y="373392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2971800" y="34290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8"/>
          <p:cNvSpPr/>
          <p:nvPr/>
        </p:nvSpPr>
        <p:spPr>
          <a:xfrm>
            <a:off x="2743200" y="450864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9"/>
          <p:cNvSpPr/>
          <p:nvPr/>
        </p:nvSpPr>
        <p:spPr>
          <a:xfrm>
            <a:off x="6095880" y="48006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3733920" y="47242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510552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2"/>
          <p:cNvSpPr/>
          <p:nvPr/>
        </p:nvSpPr>
        <p:spPr>
          <a:xfrm>
            <a:off x="4952880" y="45720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434340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4"/>
          <p:cNvSpPr/>
          <p:nvPr/>
        </p:nvSpPr>
        <p:spPr>
          <a:xfrm>
            <a:off x="3657600" y="51814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5"/>
          <p:cNvSpPr/>
          <p:nvPr/>
        </p:nvSpPr>
        <p:spPr>
          <a:xfrm>
            <a:off x="2971800" y="48769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3"/>
          <p:cNvSpPr/>
          <p:nvPr/>
        </p:nvSpPr>
        <p:spPr>
          <a:xfrm>
            <a:off x="6172200" y="3962520"/>
            <a:ext cx="587520" cy="20574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44"/>
          <p:cNvSpPr/>
          <p:nvPr/>
        </p:nvSpPr>
        <p:spPr>
          <a:xfrm flipH="1">
            <a:off x="2701440" y="4114800"/>
            <a:ext cx="879480" cy="190512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51"/>
          <p:cNvSpPr/>
          <p:nvPr/>
        </p:nvSpPr>
        <p:spPr>
          <a:xfrm flipV="1">
            <a:off x="66294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8"/>
          <p:cNvSpPr/>
          <p:nvPr/>
        </p:nvSpPr>
        <p:spPr>
          <a:xfrm>
            <a:off x="5410080" y="2666880"/>
            <a:ext cx="0" cy="18288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4419720" y="4114800"/>
            <a:ext cx="0" cy="190512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formation shar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a place for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experiences together from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different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ng as a knowledge base b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cumen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eriences, lessons, best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Communi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periences, lessons, best practices to other 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best practices t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pacity build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 training and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co-ordin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ongst organizations within and across sectors through harmonized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titutional linkag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ocal, regional, na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(and flows between th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‘talking’ to action; bring experiences and lessons together in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integr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model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can be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tested, replicated, scaled out and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terface between practitioners and policy mak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highlight issues that are important to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ng as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stepping st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formation of regional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</a:rPr>
              <a:t>platfo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link to other platforms in synergistic way (e.g. SLM plat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4335-B302-47B5-9E01-51A529BA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What are we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: actor landscap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 to discuss need and 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SC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: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 to establish TWGs and ac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: SC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: TWG meetings (pl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 (pl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/Dec: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for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1AD0-8E4E-4182-85FA-8897CEC27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429000" y="1828800"/>
            <a:ext cx="2286000" cy="38088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ering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981080" y="2438280"/>
            <a:ext cx="1524240" cy="30492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pport NB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ound Single Corner Rectangle 5"/>
          <p:cNvSpPr/>
          <p:nvPr/>
        </p:nvSpPr>
        <p:spPr>
          <a:xfrm>
            <a:off x="220968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ound Single Corner Rectangle 6"/>
          <p:cNvSpPr/>
          <p:nvPr/>
        </p:nvSpPr>
        <p:spPr>
          <a:xfrm>
            <a:off x="32004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ound Single Corner Rectangle 7"/>
          <p:cNvSpPr/>
          <p:nvPr/>
        </p:nvSpPr>
        <p:spPr>
          <a:xfrm>
            <a:off x="4191120" y="3962520"/>
            <a:ext cx="76176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ound Single Corner Rectangle 8"/>
          <p:cNvSpPr/>
          <p:nvPr/>
        </p:nvSpPr>
        <p:spPr>
          <a:xfrm>
            <a:off x="52578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ound Single Corner Rectangle 9"/>
          <p:cNvSpPr/>
          <p:nvPr/>
        </p:nvSpPr>
        <p:spPr>
          <a:xfrm>
            <a:off x="6248520" y="3962520"/>
            <a:ext cx="76176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ound Single Corner Rectangle 10"/>
          <p:cNvSpPr/>
          <p:nvPr/>
        </p:nvSpPr>
        <p:spPr>
          <a:xfrm>
            <a:off x="73152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ound Single Corner Rectangle 11"/>
          <p:cNvSpPr/>
          <p:nvPr/>
        </p:nvSpPr>
        <p:spPr>
          <a:xfrm>
            <a:off x="1143000" y="3962520"/>
            <a:ext cx="762120" cy="380880"/>
          </a:xfrm>
          <a:prstGeom prst="pie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traight Connector 14"/>
          <p:cNvSpPr/>
          <p:nvPr/>
        </p:nvSpPr>
        <p:spPr>
          <a:xfrm>
            <a:off x="4572000" y="2209680"/>
            <a:ext cx="0" cy="76212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traight Connector 16"/>
          <p:cNvSpPr/>
          <p:nvPr/>
        </p:nvSpPr>
        <p:spPr>
          <a:xfrm>
            <a:off x="1523880" y="3733920"/>
            <a:ext cx="6172200" cy="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traight Connector 19"/>
          <p:cNvSpPr/>
          <p:nvPr/>
        </p:nvSpPr>
        <p:spPr>
          <a:xfrm>
            <a:off x="15238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traight Connector 20"/>
          <p:cNvSpPr/>
          <p:nvPr/>
        </p:nvSpPr>
        <p:spPr>
          <a:xfrm>
            <a:off x="259092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traight Connector 21"/>
          <p:cNvSpPr/>
          <p:nvPr/>
        </p:nvSpPr>
        <p:spPr>
          <a:xfrm>
            <a:off x="35812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traight Connector 22"/>
          <p:cNvSpPr/>
          <p:nvPr/>
        </p:nvSpPr>
        <p:spPr>
          <a:xfrm>
            <a:off x="457200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23"/>
          <p:cNvSpPr/>
          <p:nvPr/>
        </p:nvSpPr>
        <p:spPr>
          <a:xfrm>
            <a:off x="56386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traight Connector 24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25"/>
          <p:cNvSpPr/>
          <p:nvPr/>
        </p:nvSpPr>
        <p:spPr>
          <a:xfrm>
            <a:off x="7696080" y="37339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7"/>
          <p:cNvSpPr/>
          <p:nvPr/>
        </p:nvSpPr>
        <p:spPr>
          <a:xfrm>
            <a:off x="1676520" y="4876920"/>
            <a:ext cx="6019560" cy="914400"/>
          </a:xfrm>
          <a:prstGeom prst="ellipse">
            <a:avLst/>
          </a:prstGeom>
          <a:solidFill>
            <a:srgbClr val="c4e2c5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programs’, projects,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ounded Rectangle 28"/>
          <p:cNvSpPr/>
          <p:nvPr/>
        </p:nvSpPr>
        <p:spPr>
          <a:xfrm>
            <a:off x="3200400" y="2971800"/>
            <a:ext cx="2743200" cy="533520"/>
          </a:xfrm>
          <a:prstGeom prst="roundRect">
            <a:avLst>
              <a:gd name="adj" fmla="val 16667"/>
            </a:avLst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. Platform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31"/>
          <p:cNvSpPr/>
          <p:nvPr/>
        </p:nvSpPr>
        <p:spPr>
          <a:xfrm>
            <a:off x="3505320" y="2590920"/>
            <a:ext cx="1066680" cy="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34"/>
          <p:cNvSpPr/>
          <p:nvPr/>
        </p:nvSpPr>
        <p:spPr>
          <a:xfrm>
            <a:off x="4572000" y="3505320"/>
            <a:ext cx="0" cy="2286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Callout 41"/>
          <p:cNvSpPr/>
          <p:nvPr/>
        </p:nvSpPr>
        <p:spPr>
          <a:xfrm>
            <a:off x="6858000" y="1600200"/>
            <a:ext cx="1828800" cy="1143000"/>
          </a:xfrm>
          <a:prstGeom prst="wedgeEllipseCallout">
            <a:avLst>
              <a:gd name="adj1" fmla="val -58175"/>
              <a:gd name="adj2" fmla="val 43259"/>
            </a:avLst>
          </a:prstGeom>
          <a:solidFill>
            <a:srgbClr val="ffffff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Straight Arrow Connector 43"/>
          <p:cNvCxnSpPr/>
          <p:nvPr/>
        </p:nvCxnSpPr>
        <p:spPr>
          <a:xfrm>
            <a:off x="1599120" y="4419720"/>
            <a:ext cx="305640" cy="45792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8" name="Straight Arrow Connector 46"/>
          <p:cNvCxnSpPr/>
          <p:nvPr/>
        </p:nvCxnSpPr>
        <p:spPr>
          <a:xfrm flipH="1">
            <a:off x="4571640" y="4419720"/>
            <a:ext cx="2160" cy="30528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9" name="Straight Arrow Connector 49"/>
          <p:cNvCxnSpPr/>
          <p:nvPr/>
        </p:nvCxnSpPr>
        <p:spPr>
          <a:xfrm>
            <a:off x="2666880" y="4419720"/>
            <a:ext cx="153360" cy="38160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0" name="Straight Arrow Connector 52"/>
          <p:cNvCxnSpPr/>
          <p:nvPr/>
        </p:nvCxnSpPr>
        <p:spPr>
          <a:xfrm>
            <a:off x="3581280" y="4419720"/>
            <a:ext cx="76680" cy="30528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1" name="Straight Arrow Connector 60"/>
          <p:cNvCxnSpPr/>
          <p:nvPr/>
        </p:nvCxnSpPr>
        <p:spPr>
          <a:xfrm flipH="1">
            <a:off x="5562360" y="4495320"/>
            <a:ext cx="78480" cy="30564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2" name="Straight Arrow Connector 62"/>
          <p:cNvCxnSpPr/>
          <p:nvPr/>
        </p:nvCxnSpPr>
        <p:spPr>
          <a:xfrm flipH="1">
            <a:off x="6476400" y="4495320"/>
            <a:ext cx="154440" cy="30564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Straight Arrow Connector 64"/>
          <p:cNvCxnSpPr/>
          <p:nvPr/>
        </p:nvCxnSpPr>
        <p:spPr>
          <a:xfrm flipH="1">
            <a:off x="7238160" y="4572000"/>
            <a:ext cx="381960" cy="381600"/>
          </a:xfrm>
          <a:prstGeom prst="straightConnector1">
            <a:avLst/>
          </a:prstGeom>
          <a:ln w="9360">
            <a:solidFill>
              <a:srgbClr val="f0ac00"/>
            </a:solidFill>
            <a:miter/>
            <a:headEnd len="med" type="arrow" w="med"/>
            <a:tailEnd len="med" type="arrow" w="med"/>
          </a:ln>
        </p:spPr>
      </p:cxnSp>
      <p:sp>
        <p:nvSpPr>
          <p:cNvPr id="144" name="Curved Left Arrow 69"/>
          <p:cNvSpPr/>
          <p:nvPr/>
        </p:nvSpPr>
        <p:spPr>
          <a:xfrm>
            <a:off x="6705720" y="2971800"/>
            <a:ext cx="2209680" cy="2971800"/>
          </a:xfrm>
          <a:custGeom>
            <a:avLst/>
            <a:gdLst>
              <a:gd name="textAreaLeft" fmla="*/ 295920 w 2209680"/>
              <a:gd name="textAreaRight" fmla="*/ 1913760 w 2209680"/>
              <a:gd name="textAreaTop" fmla="*/ 535680 h 2971800"/>
              <a:gd name="textAreaBottom" fmla="*/ 21600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89" stAng="-5400000" swAng="5400000"/>
                <a:lnTo>
                  <a:pt x="21600" y="11804"/>
                </a:lnTo>
                <a:arcTo wR="21600" hR="7789" stAng="0" swAng="3263686"/>
                <a:lnTo>
                  <a:pt x="5400" y="21353"/>
                </a:lnTo>
                <a:lnTo>
                  <a:pt x="0" y="17585"/>
                </a:lnTo>
                <a:lnTo>
                  <a:pt x="5400" y="13322"/>
                </a:lnTo>
                <a:lnTo>
                  <a:pt x="5400" y="15330"/>
                </a:lnTo>
                <a:arcTo wR="21600" hR="7789" stAng="3263686" swAng="-2934023"/>
                <a:lnTo>
                  <a:pt x="20870" y="9796"/>
                </a:lnTo>
                <a:arcTo wR="21600" hR="7789" stAng="-329662" swAng="-5070338"/>
                <a:close/>
              </a:path>
              <a:path fill="darkenLess" w="21600" h="21600">
                <a:moveTo>
                  <a:pt x="0" y="0"/>
                </a:moveTo>
                <a:arcTo wR="21600" hR="7789" stAng="-5400000" swAng="5400000"/>
                <a:lnTo>
                  <a:pt x="21600" y="11804"/>
                </a:lnTo>
                <a:arcTo wR="21600" hR="7789" stAng="0" swAng="-329662"/>
                <a:lnTo>
                  <a:pt x="20870" y="9796"/>
                </a:lnTo>
                <a:arcTo wR="21600" hR="7789" stAng="-329662" swAng="-5070338"/>
                <a:close/>
              </a:path>
            </a:pathLst>
          </a:custGeom>
          <a:solidFill>
            <a:srgbClr val="dddfe5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urved Down Arrow 71"/>
          <p:cNvSpPr/>
          <p:nvPr/>
        </p:nvSpPr>
        <p:spPr>
          <a:xfrm rot="16200000">
            <a:off x="-152280" y="3200040"/>
            <a:ext cx="2971800" cy="2209680"/>
          </a:xfrm>
          <a:custGeom>
            <a:avLst/>
            <a:gdLst>
              <a:gd name="textAreaLeft" fmla="*/ 535680 w 2971800"/>
              <a:gd name="textAreaRight" fmla="*/ 2160000 w 2971800"/>
              <a:gd name="textAreaTop" fmla="*/ 295920 h 2209680"/>
              <a:gd name="textAreaBottom" fmla="*/ 19137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89" hR="21600" stAng="10800000" swAng="5400000"/>
                <a:lnTo>
                  <a:pt x="11804" y="0"/>
                </a:lnTo>
                <a:arcTo wR="7789" hR="21600" stAng="-5400000" swAng="3263686"/>
                <a:lnTo>
                  <a:pt x="21353" y="16200"/>
                </a:lnTo>
                <a:lnTo>
                  <a:pt x="17585" y="21600"/>
                </a:lnTo>
                <a:lnTo>
                  <a:pt x="13322" y="16200"/>
                </a:lnTo>
                <a:lnTo>
                  <a:pt x="15330" y="16200"/>
                </a:lnTo>
                <a:arcTo wR="7789" hR="21600" stAng="-2136314" swAng="-2934023"/>
                <a:lnTo>
                  <a:pt x="9796" y="730"/>
                </a:lnTo>
                <a:arcTo wR="7789" hR="21600" stAng="-5729662" swAng="-5070338"/>
                <a:close/>
              </a:path>
              <a:path fill="darkenLess" w="21600" h="21600">
                <a:moveTo>
                  <a:pt x="0" y="21600"/>
                </a:moveTo>
                <a:arcTo wR="7789" hR="21600" stAng="10800000" swAng="5400000"/>
                <a:lnTo>
                  <a:pt x="7789" y="0"/>
                </a:lnTo>
                <a:arcTo wR="7789" hR="21600" stAng="-5400000" swAng="329662"/>
                <a:lnTo>
                  <a:pt x="9796" y="730"/>
                </a:lnTo>
                <a:arcTo wR="7789" hR="21600" stAng="-5729662" swAng="-5070338"/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Thematic working grou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26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cal inno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ich may include watershed management, land and water and vegetation)– to be led by Birru Yitaferu from ARARI (chair) and Dr. Assefa Taa from OROMIA research center (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al Inno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Zelalem, RiPPLE (chair) and Alan Duncan/Katherine Snyder (co-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Lobby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sfay Alemseged (Ethiopian Institute of Water Resources), Dr. Assefa Admasie from Ethiopia Economic Institution,  Leulseged Yirgu from Ri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lience Ecosystem and Climate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elaku Tadesse (SLM) (chair) and Belay Semane from Addis Ababa University (co-cha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see the relation between NBDC and the national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we realistically achieve till end 2013 (in terms of time and funding); what should be our foc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TWGs appropriate when we look at our own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814B-A45B-4E21-A672-29D4AF09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e the involvement and linkages of the various projects with the national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ole do you see for yourself in the thematic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1845-F01F-4F79-8AEA-B71D69F96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Kentice Tikolo</dc:creator>
  <dc:description/>
  <dc:language>en-US</dc:language>
  <cp:lastModifiedBy>Swaans, Kees (ILRI)</cp:lastModifiedBy>
  <dcterms:modified xsi:type="dcterms:W3CDTF">2012-05-30T09:01:18Z</dcterms:modified>
  <cp:revision>446</cp:revision>
  <dc:subject/>
  <dc:title>PowerPoint Presentation</dc:title>
</cp:coreProperties>
</file>